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C06C-7804-432E-87CC-EB8B782C2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5100-DD2D-46AD-A8FE-57437140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4292-4CFC-4FFA-86E0-87F6A1F7D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8575-A0C5-45C2-B79B-81781EDF3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FD58-6BCC-440C-89BE-290F83A8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452F-DC7F-42C1-B834-E063408C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D096-08DD-4648-AA8A-1129C0E4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5098-5496-4C0D-B002-BF423AFC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A185-E48B-41ED-B6B7-3F6CDB52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8789-65BD-4119-8E49-63DB03B4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F907-15D2-4D96-8872-F563F2E7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4E40-1D94-4B1A-A80C-D33AEB5D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63F4-7CCE-4F3F-A2B8-0E2C63C49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-Atlantic Slave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487656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hows how tightly packed the ships were, the conditions were so bad they attempted suic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slaveship"/>
          <p:cNvPicPr/>
          <p:nvPr/>
        </p:nvPicPr>
        <p:blipFill>
          <a:blip r:embed="rId1"/>
          <a:stretch/>
        </p:blipFill>
        <p:spPr>
          <a:xfrm>
            <a:off x="152280" y="1828800"/>
            <a:ext cx="5410440" cy="2635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slavesondeck"/>
          <p:cNvPicPr/>
          <p:nvPr/>
        </p:nvPicPr>
        <p:blipFill>
          <a:blip r:embed="rId2"/>
          <a:stretch/>
        </p:blipFill>
        <p:spPr>
          <a:xfrm>
            <a:off x="5943600" y="457200"/>
            <a:ext cx="2736720" cy="31240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9"/>
          <p:cNvSpPr/>
          <p:nvPr/>
        </p:nvSpPr>
        <p:spPr>
          <a:xfrm>
            <a:off x="457200" y="30492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slaves became seasick or developed diarrhea. They couldn't move because they were chained into their positions, the deck became a stinking mass of human was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5715000" y="4114800"/>
            <a:ext cx="25146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s had developed sores where their chains had rubbed their skin, their festering wounds often had maggots eating away their fles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Re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.  The Middle Passage is best defined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oute through the Swiss Al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arrow body of water connecting two larger bodie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rced journey of enslaved Africans to the Ame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pulsion of Muslims from S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://www.slaverysite.com/Body/slave_trade_1650-1860_b%20-%20www.slaveryinamerica.org.jpg"/>
          <p:cNvPicPr/>
          <p:nvPr/>
        </p:nvPicPr>
        <p:blipFill>
          <a:blip r:embed="rId1"/>
          <a:stretch/>
        </p:blipFill>
        <p:spPr>
          <a:xfrm>
            <a:off x="685800" y="1066680"/>
            <a:ext cx="75549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Re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.  What was a direct result of the trans-Atlantic slave trade on African cul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frican communities faced economic dis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industrial factories were established throughout Af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ism was no longer practiced in Af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ricans across the continent hired Europeans to train their milit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Re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.  Which statement accurately reflects population changes that occurred as a result of the Age of Explor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Latin American populations became more culturally dive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third of Europe’s population died due to exposure to diseases from the Amer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roduction of goods from the Americas caused a decline in Asian pop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Americans migrated to Africa causing increases in African pop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bian Ex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http://3.bp.blogspot.com/-JeXfyCjLXk8/Tw4xjfkr7KI/AAAAAAAAAkw/-vUDpW3ox3U/s1600/ColExchange.jpg"/>
          <p:cNvPicPr/>
          <p:nvPr/>
        </p:nvPicPr>
        <p:blipFill>
          <a:blip r:embed="rId1"/>
          <a:stretch/>
        </p:blipFill>
        <p:spPr>
          <a:xfrm>
            <a:off x="609480" y="1219320"/>
            <a:ext cx="7315200" cy="4843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Re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.  The Columbian exchange is most closely associated with the beginning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anti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fic soci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Re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.  What was one effect of the Columbian exchange on European socie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ration to the Americas decl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ses were acquired for the first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pulation increased with the introduction of new fo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ristian Church was divided into Roman Catholic and Orthod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 of Columbian Ex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Native Amer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ases wipe out much of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ses make the plain Indians more mob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atoes becomes staple of Italian di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colate produced for weal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ato becomes staple crop in Europe (Irela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 of Columbian Ex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sia &amp;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ava, sweet potato imported to Africa &amp; Asia causes a major increase in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i powder becomes staple of Indian cuis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www.garden.org/images/App/regional/regionimages/3985.jpg"/>
          <p:cNvPicPr/>
          <p:nvPr/>
        </p:nvPicPr>
        <p:blipFill>
          <a:blip r:embed="rId1"/>
          <a:stretch/>
        </p:blipFill>
        <p:spPr>
          <a:xfrm>
            <a:off x="4648320" y="1371600"/>
            <a:ext cx="3930480" cy="2666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millwall-history.org.uk/POPGraph1.jpg"/>
          <p:cNvPicPr/>
          <p:nvPr/>
        </p:nvPicPr>
        <p:blipFill>
          <a:blip r:embed="rId2"/>
          <a:stretch/>
        </p:blipFill>
        <p:spPr>
          <a:xfrm>
            <a:off x="4683240" y="4191120"/>
            <a:ext cx="42670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frican Slavery Happe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among African kingdoms to enslave each other – prisoners of war.  Not usually born into it and not usually horrible cond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.  Europeans wanted to find a “more durable” resource of labor to replace Native Americans who were dying from smallpox and overwork on encomien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Regents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.  Which of these events during the Age of Exploration was a cause of the other thre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peans brought food, animals, and ideas from one continent to anot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pean diseases had an adverse effect on the native populations of new territo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fare increased as European nations competed for land and pow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es in learning and technology made long ocean voyages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Re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.  Which statement best describes a result of the scarcity of native Indian labor in Latin America during the colonial peri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killed laborers were imported from A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eople from Spain and Portugal immigrated to the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American Indians from the British colonies went south to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numbers of African slaves were impor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rcRect l="0" t="0" r="0" b="39301"/>
          <a:stretch/>
        </p:blipFill>
        <p:spPr>
          <a:xfrm>
            <a:off x="228600" y="914400"/>
            <a:ext cx="4191120" cy="45306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6"/>
          <p:cNvSpPr/>
          <p:nvPr/>
        </p:nvSpPr>
        <p:spPr>
          <a:xfrm>
            <a:off x="4419720" y="1327680"/>
            <a:ext cx="4267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.  Which statement is supported by the grap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trade in enslaved    Africans took place before the 1500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ry was most widely practiced in Sweden and Denma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tions of slavery in Brazil were les harsh than those in 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Most enslaved Africans were sent to the Caribbean and Spanish Ame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5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riangle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7520" y="141444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ships brought manufactured goods (guns) to Af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stal African kings traded-slaves for guns. (Europeans could not access inner Africa due to mala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aves brought to Americas across Atlantic (middle pass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route"/>
          <p:cNvPicPr/>
          <p:nvPr/>
        </p:nvPicPr>
        <p:blipFill>
          <a:blip r:embed="rId1"/>
          <a:stretch/>
        </p:blipFill>
        <p:spPr>
          <a:xfrm>
            <a:off x="4419720" y="237960"/>
            <a:ext cx="3886200" cy="3949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4314960" y="4343400"/>
            <a:ext cx="482904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aves traded for Caribbean raw materials: molasses, timber, and later, tobacco and cott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w materials shipped to Europe and processed into manufactured go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5-Point Star 2"/>
          <p:cNvSpPr/>
          <p:nvPr/>
        </p:nvSpPr>
        <p:spPr>
          <a:xfrm>
            <a:off x="4038480" y="-25560"/>
            <a:ext cx="990720" cy="990720"/>
          </a:xfrm>
          <a:custGeom>
            <a:avLst/>
            <a:gdLst/>
            <a:ahLst/>
            <a:rect l="l" t="t" r="r" b="b"/>
            <a:pathLst>
              <a:path w="990600" h="990600">
                <a:moveTo>
                  <a:pt x="1" y="378375"/>
                </a:moveTo>
                <a:lnTo>
                  <a:pt x="378378" y="378377"/>
                </a:lnTo>
                <a:lnTo>
                  <a:pt x="495300" y="0"/>
                </a:lnTo>
                <a:lnTo>
                  <a:pt x="612222" y="378377"/>
                </a:lnTo>
                <a:lnTo>
                  <a:pt x="990599" y="378375"/>
                </a:lnTo>
                <a:lnTo>
                  <a:pt x="684484" y="612222"/>
                </a:lnTo>
                <a:lnTo>
                  <a:pt x="801412" y="990597"/>
                </a:lnTo>
                <a:lnTo>
                  <a:pt x="495300" y="756746"/>
                </a:lnTo>
                <a:lnTo>
                  <a:pt x="189188" y="990597"/>
                </a:lnTo>
                <a:lnTo>
                  <a:pt x="306116" y="612222"/>
                </a:lnTo>
                <a:lnTo>
                  <a:pt x="1" y="378375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s://encrypted-tbn2.gstatic.com/images?q=tbn:ANd9GcRJxqg3AhsSVOkipuEtZBMvSDVEwjyIgdaYX_JnioD0ut6Xtsenlg"/>
          <p:cNvPicPr/>
          <p:nvPr/>
        </p:nvPicPr>
        <p:blipFill>
          <a:blip r:embed="rId1"/>
          <a:stretch/>
        </p:blipFill>
        <p:spPr>
          <a:xfrm>
            <a:off x="762120" y="771480"/>
            <a:ext cx="6510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www.castlelearning.com/review/Courses/global/q2944.gif?v=20101222025157"/>
          <p:cNvPicPr/>
          <p:nvPr/>
        </p:nvPicPr>
        <p:blipFill>
          <a:blip r:embed="rId1"/>
          <a:stretch/>
        </p:blipFill>
        <p:spPr>
          <a:xfrm>
            <a:off x="4191120" y="2590920"/>
            <a:ext cx="4645080" cy="4014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Re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.  Based on the information shown on this map, most manufactured goods were produce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est In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colo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www.slaverysite.com/slave_ports_1750.jpg"/>
          <p:cNvPicPr/>
          <p:nvPr/>
        </p:nvPicPr>
        <p:blipFill>
          <a:blip r:embed="rId1"/>
          <a:stretch/>
        </p:blipFill>
        <p:spPr>
          <a:xfrm>
            <a:off x="1981080" y="228600"/>
            <a:ext cx="38102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iddle Pas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58112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urney Lasted anywhere from 5 weeks to 3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est part of the triangle 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cargo was tightly packed and carried disease and d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-30% died each tr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The Middle Pasaage - Atlantic Slave Trade"/>
          <p:cNvPicPr/>
          <p:nvPr/>
        </p:nvPicPr>
        <p:blipFill>
          <a:blip r:embed="rId1"/>
          <a:stretch/>
        </p:blipFill>
        <p:spPr>
          <a:xfrm>
            <a:off x="3657600" y="1600200"/>
            <a:ext cx="5334120" cy="3695760"/>
          </a:xfrm>
          <a:prstGeom prst="rect">
            <a:avLst/>
          </a:prstGeom>
          <a:ln w="0">
            <a:noFill/>
          </a:ln>
        </p:spPr>
      </p:pic>
      <p:sp>
        <p:nvSpPr>
          <p:cNvPr id="64" name="5-Point Star 1"/>
          <p:cNvSpPr/>
          <p:nvPr/>
        </p:nvSpPr>
        <p:spPr>
          <a:xfrm>
            <a:off x="6934320" y="533520"/>
            <a:ext cx="914400" cy="838080"/>
          </a:xfrm>
          <a:custGeom>
            <a:avLst/>
            <a:gdLst/>
            <a:ahLst/>
            <a:rect l="l" t="t" r="r" b="b"/>
            <a:pathLst>
              <a:path w="914400" h="838200">
                <a:moveTo>
                  <a:pt x="1" y="320163"/>
                </a:moveTo>
                <a:lnTo>
                  <a:pt x="349272" y="320165"/>
                </a:lnTo>
                <a:lnTo>
                  <a:pt x="457200" y="0"/>
                </a:lnTo>
                <a:lnTo>
                  <a:pt x="565128" y="320165"/>
                </a:lnTo>
                <a:lnTo>
                  <a:pt x="914399" y="320163"/>
                </a:lnTo>
                <a:lnTo>
                  <a:pt x="631832" y="518034"/>
                </a:lnTo>
                <a:lnTo>
                  <a:pt x="739765" y="838198"/>
                </a:lnTo>
                <a:lnTo>
                  <a:pt x="457200" y="640323"/>
                </a:lnTo>
                <a:lnTo>
                  <a:pt x="174635" y="838198"/>
                </a:lnTo>
                <a:lnTo>
                  <a:pt x="282568" y="518034"/>
                </a:lnTo>
                <a:lnTo>
                  <a:pt x="1" y="320163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4:15:33Z</dcterms:created>
  <dc:creator>student</dc:creator>
  <dc:description/>
  <dc:language>en-US</dc:language>
  <cp:lastModifiedBy>Windows User</cp:lastModifiedBy>
  <dcterms:modified xsi:type="dcterms:W3CDTF">2014-04-24T11:19:15Z</dcterms:modified>
  <cp:revision>14</cp:revision>
  <dc:subject/>
  <dc:title>Middle Passage</dc:title>
</cp:coreProperties>
</file>